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84320"/>
            <a:ext cx="0" cy="649584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60280" y="76320"/>
            <a:ext cx="7943760" cy="0"/>
          </a:xfrm>
          <a:prstGeom prst="line">
            <a:avLst/>
          </a:prstGeom>
          <a:ln w="50760">
            <a:solidFill>
              <a:srgbClr val="00df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fef9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"/>
          <p:cNvSpPr/>
          <p:nvPr/>
        </p:nvSpPr>
        <p:spPr>
          <a:xfrm>
            <a:off x="7803720" y="6188040"/>
            <a:ext cx="199800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E9CA-D908-4D63-AB50-8D916846F46E}" type="slidenum"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307360" y="28440"/>
            <a:ext cx="773280" cy="9622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009688"/>
            </a:outerShdw>
          </a:effectLst>
        </p:spPr>
      </p:pic>
      <p:sp>
        <p:nvSpPr>
          <p:cNvPr id="6" name=""/>
          <p:cNvSpPr/>
          <p:nvPr/>
        </p:nvSpPr>
        <p:spPr>
          <a:xfrm>
            <a:off x="5793120" y="64738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B2A1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sto MT"/>
              </a:rPr>
              <a:t>Manage Officer Promotions</a:t>
            </a:r>
            <a:endParaRPr b="1" lang="en-US" sz="6600" spc="-1" strike="noStrike">
              <a:solidFill>
                <a:srgbClr val="c0fef9"/>
              </a:solidFill>
              <a:latin typeface="Calisto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c0fef9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Manage Officer Promotion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Given a requirement to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officer promotions, AR 600-8-24, AR 600-8-29, and AR 600-9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Identified the eligibility requirements for officer promotions and required pre-board action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11448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3T22:58:18Z</dcterms:created>
  <dc:creator>ADG</dc:creator>
  <dc:description/>
  <dc:language>en-US</dc:language>
  <cp:lastModifiedBy>Administrator</cp:lastModifiedBy>
  <cp:lastPrinted>1998-12-15T16:37:49Z</cp:lastPrinted>
  <dcterms:modified xsi:type="dcterms:W3CDTF">2005-07-08T12:36:11Z</dcterms:modified>
  <cp:revision>22</cp:revision>
  <dc:subject/>
  <dc:title>Assemble SIDP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7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